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1.xml.rels" ContentType="application/vnd.openxmlformats-package.relationships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EB45-0181-49C4-915B-FB36F7313131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06CF-01C2-42F2-98DE-04068FB516C4}" type="slidenum">
              <a:rPr b="0" lang="en-C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039E-4752-42A6-91FB-39120E81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0AC3-00A1-4545-8A6C-5A127120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2C1C-764E-4032-AC3E-2DE007F5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F678-0A83-4354-AFCA-FFD9F8CCA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CC50-0926-4471-8A0E-4E3588724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262F-089B-4EE8-BB8F-DCB91CC6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EE98-5FA4-491F-A989-D91BF16B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AC4E-FE4F-44FF-A935-5D0E178E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71BF-B086-4BBD-BF9B-83C8FFBA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0E2D-BD13-4143-B717-70986316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DE5C-7BD9-4CE8-8C96-ACD5077F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FB63-69A6-4F34-902C-92D99C9F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3E52-FA4B-461E-9D1A-5CC59CC6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21A1-557C-469F-A322-FF87FF6B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C3A2-32B1-40AA-A883-CDF6BF82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67D4-3C9D-4FFE-B09B-A2358BAA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9CDF-3A30-45A1-8470-CEFB4406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3F7E2-05B8-4B55-9F08-774900814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BBAD0-4DD4-4B66-A4AB-CF47E7B1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56562-47C5-4078-BF58-9D8B25DE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7CCB5-73F2-4A7B-B975-395AEED1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AADC2-DE53-4988-9364-17A1938E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F547-621A-4B39-8FF2-4DFEEB9F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B6375-B21A-4F61-98F7-E40F7145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6F08C-78FE-4DF6-B0C0-ED834F1A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845B1-51E1-40DA-B782-A4056C12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EDE8C-8F8A-43CE-AAEB-0BB0B3D3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8DE09-26EC-44B6-BD75-87B715D0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6A40E-FE22-4E79-B68B-018DF9D6A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29589-EDC6-4F16-B955-B56B1AFC9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5B073-DEED-49D3-A7C1-9D1CA4E4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D3821-2079-453B-A10B-FAF0015A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75E55-59F6-4115-92E7-1BA3879E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82D5-EB63-4E8D-880B-BC0F426E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F96C2-0979-40A9-A829-A8AFFAB6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66A6C-411F-4593-8370-254E4563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C577A-0EC5-4979-8690-F1172DFC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E6340-A053-4FF3-B78B-F91C19CD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F20F9-CE77-4339-B7D2-C5517CA1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ECC9B-E943-4A5C-AE78-27E1A3AE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9BCC0-69D4-419E-B37B-32DA3F06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3EE11-080B-4CF4-974B-E4FAE7C2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FDDB0-E6F6-4B00-BAC2-46367F348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DF9D2-A496-483A-9AFF-8CA26F2C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4189-1EE6-4FA8-BDE7-520D2D37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18EEE-F4C8-4338-BA84-3AD693B7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52671-B505-45EF-A9E3-E7569B2B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6E518-6C61-47F3-9D68-E2D57DFB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96B07-763E-4843-B0D6-3B2F160F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70FE8-113B-4773-B647-76A96BC6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7157C-661D-4C3B-95B2-250D0A8C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2E1BE-9389-44E3-9339-232D5DC1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C0545-CEE6-4F63-8CB9-B183C446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BF757-2592-4973-A485-627859A6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0C6E8-3B0E-4341-91C3-E770A2A2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E4C6-90ED-4D8E-A416-AE69E65D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B1722-6A5C-4289-B4EB-5B2BFEB0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034B3-4C88-4ED6-BA1B-FFBD25AA1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B8E96-5E5F-4BE2-974C-719B57BC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941AC-86F8-42ED-AB70-55479C92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964AC-CC4F-47A9-AEBA-59120758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5FC72-6987-47E7-8556-34C3F923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EBD61-45A5-42F5-8C71-7E398A98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59C0C-8EFE-48D1-971F-90CC7BC5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3D66B-30D7-4E26-A6C9-631BE1F1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4A55B-551E-410C-A695-F57EF9E4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92F5-2CB3-44D3-9E65-7025F89C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28557-E359-4E6B-A6CC-0316FED9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B9912-3651-4A7F-AFB5-24C3200BB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EFC38-F896-4B59-8A6B-75DCA08E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DA3B-73AA-4909-989B-F2E1C75E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33CA-25C4-4E24-888C-04A8A8AB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C75D-CE7A-4C0E-A514-2EF7E5C83E0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B449-356C-4816-B303-D3E81F8E95E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F805-9AFC-4BD3-ABA6-6F5CB6F7938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1C6B-C2A9-434B-915B-7203A8D3708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AFE2-4F64-45C2-983D-35CDC8051E5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9B70-1633-4B2C-91ED-D785E73BDC9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atalepsy" TargetMode="External"/><Relationship Id="rId2" Type="http://schemas.openxmlformats.org/officeDocument/2006/relationships/hyperlink" Target="http://en.wikipedia.org/wiki/Echolalia" TargetMode="External"/><Relationship Id="rId3" Type="http://schemas.openxmlformats.org/officeDocument/2006/relationships/hyperlink" Target="http://en.wikipedia.org/wiki/Echopraxia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nmsis.org/" TargetMode="Externa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-6480" y="92160"/>
            <a:ext cx="9485280" cy="27367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1360" y="2928600"/>
            <a:ext cx="7848360" cy="37148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. Peter Chan, MD, FRC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iatric and Consult-Liaison Psychiat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Head of ECT Program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ncouver General Hospit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ical Associate Professor, Dept. of Psychiatr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ity of British Columb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8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Nov 2-5: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Med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Epival 875 mg/d, Seroquel 350 mg/d, Clonazepam 2 mg/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Can’t see”, “Can’t swallow”, more tremor, disorganiz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Antipsychotic prn’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143000" y="5072040"/>
          <a:ext cx="6095880" cy="14828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xap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oqu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9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356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Nov 5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Perseverate: “blood, blood, blood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Thinks food is poison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Pacing, Didn’t slee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CPK= 18,245 (normal &lt; 23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WBC= 12,400 (normal &lt; 11,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T= 37.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BP = 170/90 (not lab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PR = 1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10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What is your diagnos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What is the differential diagnos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What is your next step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214560"/>
            <a:ext cx="7967520" cy="78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Franklin Gothic Book"/>
              </a:rPr>
              <a:t>Case Presentation-11</a:t>
            </a: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: </a:t>
            </a:r>
            <a:r>
              <a:rPr b="0" lang="en-CA" sz="4000" spc="-1" strike="noStrike">
                <a:solidFill>
                  <a:srgbClr val="ffffff"/>
                </a:solidFill>
                <a:latin typeface="Franklin Gothic Book"/>
              </a:rPr>
              <a:t>Ms. A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28760" y="356760"/>
            <a:ext cx="840096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Nov 5-7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Nov 5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Transfer to Acute Medicine Step Down:  NM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Antipsychotics stop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Nov 6: “lead pipe rigidity”, Dantrole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Nov 7: Bromocryptine added, Desat 80% O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Transfer to ICU after code blue (aspiration L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EEG:  Mild slowing left 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Troponin 0.53 (normal &lt; 0.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4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857160" y="4572000"/>
          <a:ext cx="7143840" cy="22255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5960"/>
                <a:gridCol w="17859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per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P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B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2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-38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2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00-14,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12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Nov 8-12 (ICU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Nov 8: Midazolam drip, no clonazepam, stop Epiva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Nov 9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Repeat E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Mild diffuse encephalopathy, intermittent slowing ( 1-3 Hz delta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CT h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Nil acute chan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Nov 12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Rigidity, voluntary component, Rabbit-like jaw trem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13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What is the next step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14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285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60360" indent="-32904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Nov 12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21000" indent="-23436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BT ECT initiated in ICU (rocuronium used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00160" indent="-20340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Hypotension, bolus hel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0360" indent="-32904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Nov 13-Dec 6 (ICU then Acute Medicine Unit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21000" indent="-23436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BT ECT’s times 9, 50% energy dos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1000" indent="-23436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Slow improvement in alertness, rigidity, spee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1000" indent="-23436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Tremor and “rabbit” jaw movements go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1000" indent="-23436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Smiling, recognizing fami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1000" indent="-23436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Feeding tube but eating so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1000" indent="-23436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Transferred to Provincial Institution from STAT on Dec 10 for further treatmen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1000" indent="-23436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atatonia: DSM-IV criteri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13840" y="1571400"/>
            <a:ext cx="872676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Motor immobility as evidenced by </a:t>
            </a:r>
            <a:r>
              <a:rPr b="0" lang="en-CA" sz="19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catalepsy</a:t>
            </a: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 (including waxy flexibility) or stupor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Excessive motor activity (purposeless, not influenced by external stimuli)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Extreme negativism (motiveless resistance to all instructions or maintenance of a rigid posture against attempts to be moved) or Mutism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Peculiarities of voluntary movement as evidenced by posturing, stereotyped movements, prominent mannerisms, or prominent grimacing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Echolalia</a:t>
            </a: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CA" sz="1900" spc="-1" strike="noStrike" u="sng">
                <a:solidFill>
                  <a:srgbClr val="00c8c3"/>
                </a:solidFill>
                <a:uFillTx/>
                <a:latin typeface="Arial"/>
                <a:hlinkClick r:id="rId3"/>
              </a:rPr>
              <a:t>Echopraxia</a:t>
            </a: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t least 2 of the above features                            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ue to mental (eg: Schizophrenia or Mood Disorders) or medical disorde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oes not occur exclusively during the course of a Deliriu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*Gegenhalten, Mitgehen, Automatic Obedience, Ambitendency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Fink Catatonia Scale (1996): www.ukppg.org.uk/catatonia.htm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tatonia:  Phenomenology-1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Postur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Spontaneous maintenance of posture (s), including mundane (e.g. sitting or standing for long periods without reacting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Limb postu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Psychic pillow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Sta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tatonia:  Phenomenology-2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6840" y="1428840"/>
            <a:ext cx="85438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Rig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Maintenance of a rigid position despite efforts to be moved, exclude if cog-wheeling or tremor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Negativ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Apparently motiveless resistance to instructions or attempts to move/examine patients. Contrary behaviour, does exact opposite of instru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Waxy Flex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During reposturing of patient, patient offers initial resistance before allowing himself to be repositioned, similar to that of a bending cand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Learning Objectiv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review symptoms and signs of catatonia including lethal catatonia. 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know the overlap between catatonia and neuroleptic malignant syndrome. 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understand the role of ECT in both catatonia and neuroleptic malignant syndr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tatonia:  Phenomenology-3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Arial"/>
              </a:rPr>
              <a:t>Gegenhalt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ffffff"/>
                </a:solidFill>
                <a:latin typeface="Arial"/>
              </a:rPr>
              <a:t>Continuous involuntary sustained muscle contraction When an affected muscle is passively stretched, the degree of resistance remains constant regardless of the rate at which the muscle is stretche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Mitgeh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"Anglepoise lamp" arm raising in response to light pressure of finger, despite instructions to the contrar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tatonia:  Phenomenology-4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214280"/>
            <a:ext cx="8686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Ambitendenc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Patient appears "motorically stuck" in indecisive, hesitant movem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Automatic Obedie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Exaggerated cooperation with examiner's request or spontaneous continuation of movement requeste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Lethal Catatonia (Kahlbaum 1874)</a:t>
            </a:r>
            <a:br>
              <a:rPr sz="3600"/>
            </a:b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Mann et al., Amer. J. Psych. 1986; 143:11, p. 1374-81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assic description (Pre-neuroleptic era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tense motor excitement followed by hyperthermia and exhaustion or stup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ften prodromal phase of insomnia, anorexia, labile moo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y demontrate catatonic signs, and be delirious-like (disorganized thinking, psychosis, destructiv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y have rigidity, or flaccidity, in terminal stag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sence of acrocyanosis in so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tal in 75-100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Lethal Catatoni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9144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st-neuroleptic era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por may be predominant present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tipsychotics, benzo’s, etc. can decrease excit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p to 10% inpatient psych. admission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tal in 60%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Neuroleptic Malignant Syndrome:  DSM-IV criteria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560" y="2017440"/>
            <a:ext cx="88390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of severe rigidity and elevated temperature associated with the use of neuroleptic me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of the following:  diaphoresis, dysphagia, tremor, incontinence, change LOC, mutism, tachycardia, elevated or labile BP, elevated WBC or CPK (may also observe myoclonu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due to another substance,  or neurological disorder, or other general medical cond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better accounted for by a mental dis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NMS and Medications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218960" y="251424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tipsychotic medic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ithdrawal of L-Dopa or dopamine agonis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chlorperazine (Stemeti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toclopramide (Maxera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trabenanzine (Nitoma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NMS risk facto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haustion and Dehydr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gitation, Stress, Psycho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igher potency, rapid titration, multiple I.M.’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nvironmental heat a factor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evious history (trait vulnerability?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7% hx. of N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0% will develop NMS again upon re-challen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85816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6ea0b0"/>
                </a:solidFill>
                <a:latin typeface="Franklin Gothic Book"/>
              </a:rPr>
              <a:t>NMS: Pathogenic Mechanism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Figure 1. Simplified Pathophysiology of Neuroleptic Malignant Syndrome (NMS), and Elements of Sympathoadrenal Dysreg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From:  Strawn J. Neuroleptic Malignant Syndrome (review). 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Am J Psychiatry 164:870-876, June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4" descr=""/>
          <p:cNvPicPr/>
          <p:nvPr/>
        </p:nvPicPr>
        <p:blipFill>
          <a:blip r:embed="rId1"/>
          <a:stretch/>
        </p:blipFill>
        <p:spPr>
          <a:xfrm>
            <a:off x="-23760" y="622440"/>
            <a:ext cx="91868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"/>
          <p:cNvGraphicFramePr/>
          <p:nvPr/>
        </p:nvGraphicFramePr>
        <p:xfrm>
          <a:off x="0" y="-76320"/>
          <a:ext cx="9144000" cy="7012080"/>
        </p:xfrm>
        <a:graphic>
          <a:graphicData uri="http://schemas.openxmlformats.org/drawingml/2006/table">
            <a:tbl>
              <a:tblPr/>
              <a:tblGrid>
                <a:gridCol w="216000"/>
                <a:gridCol w="2285640"/>
                <a:gridCol w="300240"/>
                <a:gridCol w="428400"/>
                <a:gridCol w="511200"/>
                <a:gridCol w="749520"/>
                <a:gridCol w="747720"/>
                <a:gridCol w="747720"/>
                <a:gridCol w="672840"/>
                <a:gridCol w="1557360"/>
                <a:gridCol w="927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chdev NMS Scale (2005): total=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o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l temper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id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sphag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ing trem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olic B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stolic B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chycard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phore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ntin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chypne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red LO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ur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verty of spee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is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reiform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ston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K level (U/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cocyto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"/>
          <p:cNvGraphicFramePr/>
          <p:nvPr/>
        </p:nvGraphicFramePr>
        <p:xfrm>
          <a:off x="1285920" y="2143080"/>
          <a:ext cx="6095880" cy="31431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K level (U/L)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 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 “0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–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 “1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 if i.m. injection in previous 24 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–1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 “2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 if i.m. injection in previous 24 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–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 “3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 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 “4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Sachdev NMS Rating Scale:</a:t>
            </a:r>
            <a:br>
              <a:rPr sz="4600"/>
            </a:b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 CK Levels (Psych Res. 2005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1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28760" y="1071360"/>
            <a:ext cx="85010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68 y.o. Italian independent woman, some command of English, on Thioridazine (Mellaril) for 49 years, since last institutional admissi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History of Psychosis, postpartu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No family psychiatric hist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Brief hosp. In 1990’s at SVH after Thioridazine briefly D/C’d...hysterectom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Widow in 2002, lives alone in house, Gr. 5 education, restaurant worker, supportive 2 sons,1 dtr., brother and sist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7467480" cy="9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NMS Cour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0" y="107172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0.2% of pati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6% develop within 24 hrs of expo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66% develop within 1 week of expo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irtually all by 1 month of expo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63% recover within 1 week of elimin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irtually all recover by 1 month of elimin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hould wait 2 weeks at least after recovery before re-challenge with antipsychot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0-20% mortality r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9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ew have persistent catatonic and/or parkinsonian stat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aroff, S. J. Clin. Psychopharm. 2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NMS Treatment: Inform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2438280"/>
            <a:ext cx="8915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uroleptic Malignant Syndrome Information Service (NMSIS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4 hr. Hotline for professionals: 1-888-667-836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www.nmsis.or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formation: 1-888-776-674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n-profit clinical and research group—Drs. Caroff, Mann, Campbell (U. Pen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NMS: Catatonic and Non-Catatonic</a:t>
            </a:r>
            <a:br>
              <a:rPr sz="3600"/>
            </a:b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Lee JW, Aust NZ J. of Psych. 2000; 34(5): 877-8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9144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tecedent Catatonia may predispose to catatonic N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n-catatonic NMS more likely preceded by severe EPS and deliriu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NMS and Catatonia: Similarities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0" y="142884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ppearance of catatonic symptoms in N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ppearance of rigidity and hyperthermia in (lethal) cataton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eatment with Lorazepam in NM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rancis A. CNS Spectrum 2000)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d Catatonia can impro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CT effective in bo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=292 Lethal Catatonia patients from 1960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Mann S.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Am J Psychiatry 1986; 143:1374-1381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able to distinguish from NMS in 22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NMS and Catatonia: Differences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107136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treme (lead pipe) rigidity uncommon in cataton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ereotypic signs of catatonia unusual in N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citement then hyperthermia pre-neuroleptic in lethal catatonia; rigidity then hyperthermia post-neuroleptic in N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tentially effective treatments for NMS (dopamine agonists, dantrolene) less proven in cataton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imilar Conditions:  DDx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8580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ignant Hyperther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cholinergic Delir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tstro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ic Delir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otonin Syndr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usable alcohol or drug withdrawal (eg: delirium tremens) and intoxication (eg: Ecstas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us epilepticus and other CNS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ic Conditions: infection, hyperthyroidism, pheochromocytoma, adrenal cortical abnormalities, other causes of rhabdomyolysis (eg: collap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tatoni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60020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In the modern era, the most likely psychiatric cause for catatonia is Bipolar Disorder, esp. Man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More likely when severe man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Kahlbaum, Bleuler, Kraepelin all noted mood disturbance preceding cataton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Footer Placeholder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ahoma"/>
              </a:rPr>
              <a:t>From: Taylor MA, Am J Psych 2003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100" spc="-1" strike="noStrike">
                <a:solidFill>
                  <a:srgbClr val="ffffff"/>
                </a:solidFill>
                <a:latin typeface="Franklin Gothic Book"/>
              </a:rPr>
              <a:t>Prevalence of Catatonia and Mania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2500200" y="1500120"/>
            <a:ext cx="4143600" cy="4357800"/>
          </a:xfrm>
          <a:prstGeom prst="rect">
            <a:avLst/>
          </a:prstGeom>
          <a:ln w="0">
            <a:noFill/>
          </a:ln>
        </p:spPr>
      </p:pic>
      <p:sp>
        <p:nvSpPr>
          <p:cNvPr id="338" name="Footer Placeholder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ahoma"/>
              </a:rPr>
              <a:t>From: Taylor MA, Am J. Psych 2003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Pathogenic Mechanisms: Catatonia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urochemical substrat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2 antagonists can worsen cataton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ABA-B, 5-HT1A agonists promote cataton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ABA-A, 5-HT2A, NMDA agonists reduce cataton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. Northoff (2000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ww.bbsonline.org/documents/a/00/00/22/44/bbs00002244-00/bbs.northoff.ht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54 page pap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p Down Modulation”: subcortical and cortical circuits reciprocally conn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re GABA-mediated, rather than D2 media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http://www.bbsonline.org/documents/a/00/00/22/44/bbs00002244-00/figure2.jpg"/>
          <p:cNvPicPr/>
          <p:nvPr/>
        </p:nvPicPr>
        <p:blipFill>
          <a:blip r:embed="rId1"/>
          <a:stretch/>
        </p:blipFill>
        <p:spPr>
          <a:xfrm>
            <a:off x="642960" y="0"/>
            <a:ext cx="7858080" cy="6500880"/>
          </a:xfrm>
          <a:prstGeom prst="rect">
            <a:avLst/>
          </a:prstGeom>
          <a:ln w="0">
            <a:noFill/>
          </a:ln>
        </p:spPr>
      </p:pic>
      <p:sp>
        <p:nvSpPr>
          <p:cNvPr id="342" name="Footer Placeholder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ahoma"/>
              </a:rPr>
              <a:t>From: Northoff 2000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2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4284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June 2007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Loxapine 25 mg bid after stop Mellaril in May 200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Labile, energetic, little sleep, racing thou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Smelling bad odours in ho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Paranoid, carrying knife, throwing items in frustr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Confused” , disorganized, suicid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VGH Inpt Unit via emergency (June 10-July 18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Dx: Bipolar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Olanzapine 15 mg q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Trazadone 100 mg q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Clonazepam 0.25 mg/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7470720" cy="500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100" spc="-1" strike="noStrike">
                <a:solidFill>
                  <a:srgbClr val="ffffff"/>
                </a:solidFill>
                <a:latin typeface="Franklin Gothic Book"/>
              </a:rPr>
              <a:t>Modulation in Catatonia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44" name="Picture 2" descr="http://www.bbsonline.org/documents/a/00/00/22/44/bbs00002244-00/figure4.jp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345" name="Footer Placeholder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ahoma"/>
              </a:rPr>
              <a:t>From: Northoff 2000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http://www.bbsonline.org/documents/a/00/00/22/44/bbs00002244-00/figure3.jpg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8715240" cy="51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Franklin Gothic Book"/>
              </a:rPr>
              <a:t>The Frontal Lobes and its Connections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Footer Placeholder 2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ahoma"/>
              </a:rPr>
              <a:t>From: Northoff 2000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3571920" y="2143080"/>
            <a:ext cx="2143080" cy="357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1214280" y="4143240"/>
            <a:ext cx="1714680" cy="214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7572240" y="5786280"/>
            <a:ext cx="1428840" cy="214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100" spc="-1" strike="noStrike">
                <a:solidFill>
                  <a:srgbClr val="ffffff"/>
                </a:solidFill>
                <a:latin typeface="Franklin Gothic Book"/>
              </a:rPr>
              <a:t>Catatonia and PD: Differences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214200" y="2357280"/>
          <a:ext cx="8929800" cy="4173840"/>
        </p:xfrm>
        <a:graphic>
          <a:graphicData uri="http://schemas.openxmlformats.org/drawingml/2006/table">
            <a:tbl>
              <a:tblPr/>
              <a:tblGrid>
                <a:gridCol w="1636920"/>
                <a:gridCol w="3483000"/>
                <a:gridCol w="3809880"/>
              </a:tblGrid>
              <a:tr h="1626480">
                <a:tc>
                  <a:txBody>
                    <a:bodyPr lIns="34560" rIns="345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AB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lorazepam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560" rIns="345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aba-ergic mediated neuronal inhibition in medial orbitofrontal corte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Modulation of functional and behavioral inhibi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560" rIns="345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9160">
                <a:tc>
                  <a:txBody>
                    <a:bodyPr lIns="34560" rIns="345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MD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Amantadin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560" rIns="345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wn-regulation of glutamatergic-mediated overexcitation in prefrontal and orbitofrontal-parietal pathway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560" rIns="345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wn-regulation of glutamatergic-mediated overexcitation in subcortical pathway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8200">
                <a:tc>
                  <a:txBody>
                    <a:bodyPr lIns="34560" rIns="345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pam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560" rIns="345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p-down modulation of striatal D-2 receptors predisposing for neuroleptic-induced cataton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Compensation for striatal D-2 receptor deficit with "normalization" of "bottom-up modu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2000160" y="1285920"/>
          <a:ext cx="6096240" cy="557280"/>
        </p:xfrm>
        <a:graphic>
          <a:graphicData uri="http://schemas.openxmlformats.org/drawingml/2006/table">
            <a:tbl>
              <a:tblPr/>
              <a:tblGrid>
                <a:gridCol w="2911680"/>
                <a:gridCol w="3184560"/>
              </a:tblGrid>
              <a:tr h="557280">
                <a:tc>
                  <a:txBody>
                    <a:bodyPr lIns="34560" rIns="3456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Cataton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560" rIns="3456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Parkins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Catatonia Treatment: Review of Lit.</a:t>
            </a:r>
            <a:br>
              <a:rPr sz="3600"/>
            </a:b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Hawkins et al., Int. J. Psych. Med. 1995; 25(4): 345-69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9144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=178, 1985-1994 published ca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nzo’s effective in 70% (Lorazepam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CT effective in 85%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tipsychotics effective in 7.5%, or may even worsen symptoms (neuroleptic-induced catatonia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atatonia: 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ule out medical condi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razepam 1-12mg/day, up to 72hrs. Tri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cific GABA-A agoni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ntrolene to be considered if rigid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CT is treatment of choi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y consider mECT if recurr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ther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typical Antipsychotic? (not for lethal catatonia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mantadin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mantin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NMS Treatment: Biological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scontinue Antipsychotic Dru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pportive Medical Treatm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ild to Moderate NM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romocryptine 2.5-5 mg q8h (up to 30mg/d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mantadine 100mg q8h (to 200-400mg/d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y use Benzo (eg: Lorazepam 1-8 mg/d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derate to Severe NM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antrolene IV 1-2.5mg/kg (1mg/kg q6h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CT (bilateral, may even be daily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NMS and ECT: Review of Lit.</a:t>
            </a:r>
            <a:br>
              <a:rPr sz="4100"/>
            </a:br>
            <a:r>
              <a:rPr b="0" lang="en-US" sz="2200" spc="-1" strike="noStrike">
                <a:solidFill>
                  <a:srgbClr val="ffffff"/>
                </a:solidFill>
                <a:latin typeface="Franklin Gothic Book"/>
              </a:rPr>
              <a:t>Trollor and Sachdev, Aust.NZ J. of Psych 1999; 33:650-59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0" y="2209680"/>
            <a:ext cx="914400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5 published cases from 1966, and 9 new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tatonia manifested in 76% of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3% complete and 28% partial recovery with 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set of ECT response average 4 treatments, generally by 6 trea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 cases of cardiovascular com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s the use of succinylcholine unless familial malignant hyperthermia—only one case of hyperkalemia following ECT for N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NMS and ECT: Potential 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243828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ollor and Sachdev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re N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fferental between NMS and catatonia uncerta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sychotic depression is the underlying disord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tatonia predominates in N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2143080" y="1714680"/>
            <a:ext cx="5086440" cy="3495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tatonia Treatment Algorithm</a:t>
            </a:r>
            <a:br>
              <a:rPr sz="4600"/>
            </a:br>
            <a:r>
              <a:rPr b="1" lang="en-CA" sz="2800" spc="-1" strike="noStrike">
                <a:solidFill>
                  <a:srgbClr val="ffffff"/>
                </a:solidFill>
                <a:latin typeface="Franklin Gothic Book"/>
              </a:rPr>
              <a:t>Filip Van Den Eede et al. European Psychiatry 2005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onclusio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1356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can be difficult to differentiate NMS and catatonia in practice, and definitive treatments are simi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of antipsychotics with less dopamine blockade is probably less likely to produce NMS and less likely to be severe, according to the dopaminergic hypoth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NMS and catatonia can be safely and effectively treated with ECT, providing precautions are conside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3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Short-term Assessment and Treatment (STAT) Geriatric In Unit (Aug 23, 2007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Had been seen at STAT Dayprogr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Incontinent with urinary reten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Switched from Olanzapine to CPZ 250 mg/d by community psyc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Dependent on IADL’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3MS=72/100; FMMSE=24/2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4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STAT In-Unit (Aug 23-Sept 14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Mood labile, insomn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Alternates between singing at night and weeping in daytime, playing oper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Some pressure of spee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Dx: Bipolar, mixed 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Epival 750 mg/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Quetiapine 100 mg q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5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4288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81240" indent="-3481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Sept 15-28, 2007: H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Hypomanic in Dayprogr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Increased home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Compliant with Epival (level=498) , mixing up blister packed med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Son called emergency mental health services on Sept 25: threaten him with a knife “leave me alone”, crying continually, plays loud opera music in the phone, looking for a new partner, hostile and throwing things, isolate from fami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Quetiapine up to 175 mg/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6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428480"/>
            <a:ext cx="8686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VGH Psych Emerg. and STAT (Sept 28-Nov 5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Seroquel increased to 350 mg/d, multiple IM doses  in Psych Emerg.  Seclusion room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Oct 3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Mood lab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Demanded to see her husband, anniversary pa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Sad...join husband, tearful, tangential, speak lo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Physically aggres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Grandiose “I’m God. Don’t touch me...kill you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Sleeping 2 h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3MS=49/100; FMMSE=18/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Clonazepam 2 mg/d, Seroquel, Epival (level = 57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7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Oct 31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Feel dizzy, speech different, tremor, headach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CPK=37, WBC=8000, Valproic level=66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Nov 2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3 hrs/nt sleep past 2 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Paranoid, hypervigila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Fine resting tremor (no cogwheeling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Nothing inside”, Perseverate: “blood, blood, blood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Resistance to food, labile moo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10:28:37Z</dcterms:created>
  <dc:creator>Peter Chan</dc:creator>
  <dc:description/>
  <dc:language>en-US</dc:language>
  <cp:lastModifiedBy>Peter</cp:lastModifiedBy>
  <dcterms:modified xsi:type="dcterms:W3CDTF">2008-09-05T14:31:40Z</dcterms:modified>
  <cp:revision>129</cp:revision>
  <dc:subject/>
  <dc:title>An Update on Catatonia and Neuroleptic Malignant Syndrome</dc:title>
</cp:coreProperties>
</file>